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021-649C-45B9-BC07-78FF748B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2389-0BA4-49B7-BBA3-F7689AD2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332-E756-4A27-A771-6D717D29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587-F9A2-4AA5-BB80-17C84919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595-629F-4670-959B-25BB544A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53FA-8F18-4644-B7FC-36E01670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9E7-050C-4728-BCDA-1769AE6B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99A-8416-4C28-8C9B-9E2A97A7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F13-2095-4D3A-9C22-F3B29C82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F88-5358-45B0-9820-D221DCDB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803-BEA0-4477-B4A0-1E0D24D3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3C4-8D5F-4EB9-B0EC-08B574A9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854A-16E3-4C4F-BB4D-DCC244BCF19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elfast Confet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iaran Ca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000" y="1341360"/>
            <a:ext cx="30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abyri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alaclava, Raglan, Inkerman, Odes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arac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Kremlin-2 me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akrolon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usil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492360" y="1341360"/>
            <a:ext cx="5400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untain; also f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elfast streets or landmarks named after famous battles, sieges or military le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rmoured personnel carrier/t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ti-rocket netting fitted to t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t synthetic material suitable for vis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rst of gunf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1-18T22:15:15Z</dcterms:modified>
  <cp:revision>40</cp:revision>
  <dc:subject/>
  <dc:title>La Belle Dame Sans Merci</dc:title>
</cp:coreProperties>
</file>